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xplode.wav" ContentType="audio/x-wav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17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laser.wav" ContentType="audio/x-wav"/>
  <Override PartName="/ppt/media/image4.jpeg" ContentType="image/jpeg"/>
  <Override PartName="/ppt/media/image14.jpeg" ContentType="image/jpeg"/>
  <Override PartName="/ppt/media/coin.wav" ContentType="audio/x-wav"/>
  <Override PartName="/ppt/media/image13.jpeg" ContentType="image/jpeg"/>
  <Override PartName="/ppt/media/image1.jpeg" ContentType="image/jpe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7F54-388F-4751-AAF7-A5A407B72A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4EB-1922-4E89-AB56-69336608361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856-1B44-4524-88DF-826F2B01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D4F-A593-4066-9793-B71EAB2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3B0-84D7-4BA2-966C-2D1A79C5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5E0-B317-404B-B02F-E7E2DD76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D7D-BB5E-4CC5-8E91-3097BD73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3C30-A7F7-4DD4-BFE0-A22CA1B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4141-3DD9-4AF2-B1D6-5DE0645F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F892-514E-41D7-9BFB-FAF217E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C044-B577-462C-8156-AFAD5606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2478-7BC7-4C48-A1BB-D0D16FEE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F907-B71F-4000-AE72-94C7E84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C2D-AFB8-49CA-A914-85A5DCBD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FC07-4205-4ED8-BCB7-9E70606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A5E5-9618-4FA5-8175-00C2493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4B1-5339-4C09-924D-3313B97D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C10-F7C7-4EBA-BBB1-FED53753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A50-C8D0-4ABB-9134-3DC8422A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F82-5F96-4604-969F-AB938DA3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CC0-AC84-4DFC-9AAB-947FA004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8D5-3708-45DB-8F4E-191A70E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CD1-55E6-46D5-99DE-0B0F746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CEE-6736-4FF9-9C9C-24E5F02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8DC-53F9-479A-9346-8F2EDF5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A62-E92B-4E2A-8488-26A6E681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56D-3904-465B-A33E-FA83CD9A34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AF2E-FD4D-4ED4-8A0D-632FE67E95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baptistcollege.edu/news_events/press/2006/russia_homeless_0306.jpg&amp;imgrefurl=http://www.baptistcollege.edu/news_events/press/2006/russia_homeless.htm&amp;usg=__n-JQfrmj-evry7nToidx313KVqU=&amp;h=480&amp;w=640&amp;sz=191&amp;hl=en&amp;start=2&amp;zoom=1&amp;itbs=1&amp;tbnid=fYq-kJqBQrYaLM:&amp;tbnh=103&amp;tbnw=137&amp;prev=/images%3Fq%3Drussia%2Bhomeless%2Bpeople%26hl%3Den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1.bp.blogspot.com/_CAoFDpupTaY/THEUk7uGXgI/AAAAAAAACTE/hGVd-AhgGrM/s1600/medvedev%255B1%255D.jpg&amp;imgrefurl=http://legendofpineridge.blogspot.com/2010/08/president-medvedev-says-russians-have.html&amp;usg=__DHaWGLZ6k365YwBM7fp8_TWcZXY=&amp;h=800&amp;w=533&amp;sz=62&amp;hl=en&amp;start=11&amp;zoom=1&amp;itbs=1&amp;tbnid=d8m4Ss7mGpUa8M:&amp;tbnh=143&amp;tbnw=95&amp;prev=/images%3Fq%3Drussian%2Bpresident%2B2010%26hl%3Den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rkbrouwer.com/wp-content/uploads/2008/01/holding-hope.jpg&amp;imgrefurl=http://markbrouwer.com/%3Fp%3D118&amp;usg=__X8R57vJvarkN9ApZ9h7LAj8oWNM=&amp;h=357&amp;w=336&amp;sz=107&amp;hl=en&amp;start=1&amp;zoom=1&amp;itbs=1&amp;tbnid=lSkOd2uHYpCTSM:&amp;tbnh=121&amp;tbnw=114&amp;prev=/images%3Fq%3Dpeople%2Bstruggling%26hl%3Den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/imgres?imgurl=http://www.marketoracle.co.uk/images/russian-poverty.jpg&amp;imgrefurl=http://www.marketoracle.co.uk/Article22127.html&amp;usg=__xvlswQQXhmMGL7i7uHsojTwguvw=&amp;h=180&amp;w=150&amp;sz=16&amp;hl=en&amp;start=2&amp;zoom=1&amp;itbs=1&amp;tbnid=I8i9bO5Y-oiLdM:&amp;tbnh=101&amp;tbnw=84&amp;prev=/images%3Fq%3Drussian%2Bpoverty%26hl%3Den%26gbv%3D2%26tbs%3Disch: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om/imgres?imgurl=http://www.globalsecurity.org/wmd/library/news/russia/2000/russia/8-1.gif&amp;imgrefurl=http://www.globalsecurity.org/wmd/library/news/russia/2000/russia/part08.htm&amp;usg=__VLJEEk0K0adq1zSDiiuIYaoLYqo=&amp;h=304&amp;w=396&amp;sz=101&amp;hl=en&amp;start=4&amp;zoom=1&amp;itbs=1&amp;tbnid=tXgfUtJY3nenBM:&amp;tbnh=95&amp;tbnw=124&amp;prev=/images%3Fq%3Drussian%2Bpoverty%26hl%3Den%26gbv%3D2%26tbs%3Disch:1" TargetMode="External"/><Relationship Id="rId6" Type="http://schemas.openxmlformats.org/officeDocument/2006/relationships/image" Target="../media/image10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us.org/files/images/russia-fla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Brush Script MT"/>
              </a:rPr>
              <a:t>Present Day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By: Jason K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Ryan L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Peter Gag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5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2" descr="Vladmir.jpg"/>
          <p:cNvPicPr/>
          <p:nvPr/>
        </p:nvPicPr>
        <p:blipFill>
          <a:blip r:embed="rId1"/>
          <a:stretch/>
        </p:blipFill>
        <p:spPr>
          <a:xfrm>
            <a:off x="457200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Boris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edvedev-1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http://t3.gstatic.com/images?q=tbn:ANd9GcQr1LrsoHQJr2uxSzMsdhx395TqtyZyG01UdLX_-3E5rMYvy2uQqA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8" descr="http://t1.gstatic.com/images?q=tbn:ANd9GcRF70OPQIR3zOL9oapKiZ9YjfRqff5-mYMutL1Pnzm35yDv8Iy7oA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Bodoni MT Condensed"/>
              </a:rPr>
              <a:t>Government Method Backfi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Presidents serve a term for six years and may be elected for back-to-back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hange of government from communist to democracy cause many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Job losses caused by wrong choices in career because after they changed to democracy, they became a free market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Russians decided to reduce price so people can afford it. However, they were short on supply so they needed to raise the price and many people couldn’t afford it anymo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cademy Engraved LET"/>
              </a:rPr>
              <a:t>Copied the U.S. democracy government but the Russian president has more power like signing laws with only his/her own approval but some use it to make decisions but they aren’t always good deci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55520" y="-639720"/>
            <a:ext cx="109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155520" y="-617400"/>
            <a:ext cx="198108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3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3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3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42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44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46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AutoShape 48"/>
          <p:cNvSpPr/>
          <p:nvPr/>
        </p:nvSpPr>
        <p:spPr>
          <a:xfrm>
            <a:off x="155520" y="-593640"/>
            <a:ext cx="11905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  <p:sndAc>
      <p:stSnd>
        <p:snd r:embed="rId6" name="explode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895480"/>
            <a:ext cx="918540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Agriculture is horrible because it is so cold the ground doesn’t thaw out until May or June making it hard to plant cro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Poor Richard"/>
              </a:rPr>
              <a:t>Life expectancy decr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9144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914400"/>
            <a:ext cx="2666880" cy="2438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push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c1"/>
                </a:solidFill>
                <a:latin typeface="augie"/>
              </a:rPr>
              <a:t>Bad Deci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Built nuclear power plants that leave dangerou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Changed to democracy which was a hard transition because many things were n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Nuclear power plants by-products cause explosion in Chernobyl and pollu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5" descr="http://t3.gstatic.com/images?q=tbn:ANd9GcQrAerm14nb-BZU2l2kSMlqHK7SlIktJV1Zck1y2FOacLooI4kGkjuAW6NcBQ"/>
          <p:cNvPicPr/>
          <p:nvPr/>
        </p:nvPicPr>
        <p:blipFill>
          <a:blip r:embed="rId1"/>
          <a:stretch/>
        </p:blipFill>
        <p:spPr>
          <a:xfrm>
            <a:off x="609480" y="1143000"/>
            <a:ext cx="1676520" cy="18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http://t3.gstatic.com/images?q=tbn:ANd9GcSELAMPGTLf-YyiFNWskzcN3QHp8wgvE02cal00Dza5ecMVCeFv"/>
          <p:cNvPicPr/>
          <p:nvPr/>
        </p:nvPicPr>
        <p:blipFill>
          <a:blip r:embed="rId2"/>
          <a:stretch/>
        </p:blipFill>
        <p:spPr>
          <a:xfrm>
            <a:off x="2743200" y="1066680"/>
            <a:ext cx="2467080" cy="1857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15552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5" descr="http://t1.gstatic.com/images?q=tbn:ANd9GcTyxYa-f3CEnibGYexTF4Sof0M4tVNsF6QM2oA-M-ipi-v6IVg3Wg"/>
          <p:cNvPicPr/>
          <p:nvPr/>
        </p:nvPicPr>
        <p:blipFill>
          <a:blip r:embed="rId3"/>
          <a:stretch/>
        </p:blipFill>
        <p:spPr>
          <a:xfrm>
            <a:off x="5867280" y="1066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295280" y="22860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943200" cy="942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6" name="laser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5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8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83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77 0.09468 -0.00156 0.01459 -0.00156 0.24121 E">
                                      <p:cBhvr>
                                        <p:cTn id="38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3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44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Gill Sans Ultra Bold"/>
              </a:rPr>
              <a:t>Disa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spill – 25,000,000 gallons of oil spilled and they didn’t have proper clean up materials so they burned it, causing pollution. Later, it was fixed in Serb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10" descr="http://t2.gstatic.com/images?q=tbn:ANd9GcTmHhecxNYF-oN6Z9oOtV9KWl9UIoyzlLo8tQ-fGOMOu-lCJjFtAQ"/>
          <p:cNvPicPr/>
          <p:nvPr/>
        </p:nvPicPr>
        <p:blipFill>
          <a:blip r:embed="rId1"/>
          <a:stretch/>
        </p:blipFill>
        <p:spPr>
          <a:xfrm>
            <a:off x="2438280" y="1219320"/>
            <a:ext cx="4191120" cy="31953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2"/>
          <p:cNvSpPr/>
          <p:nvPr/>
        </p:nvSpPr>
        <p:spPr>
          <a:xfrm>
            <a:off x="155520" y="-693720"/>
            <a:ext cx="198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14" descr="http://t1.gstatic.com/images?q=tbn:ANd9GcRAlRH6_JF5cTml1-166vc2ZAjV8Hsb2hFqKPBNGHMULcckOH7xbQ"/>
          <p:cNvPicPr/>
          <p:nvPr/>
        </p:nvPicPr>
        <p:blipFill>
          <a:blip r:embed="rId2"/>
          <a:stretch/>
        </p:blipFill>
        <p:spPr>
          <a:xfrm>
            <a:off x="2362320" y="1371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wind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50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14300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9999"/>
                </a:solidFill>
                <a:latin typeface="Snap ITC"/>
              </a:rPr>
              <a:t>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 rot="19654800">
            <a:off x="1415880" y="273996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Box 7"/>
          <p:cNvSpPr/>
          <p:nvPr/>
        </p:nvSpPr>
        <p:spPr>
          <a:xfrm rot="19483800">
            <a:off x="1402560" y="273996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is the title on the bottom?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8"/>
          <p:cNvSpPr/>
          <p:nvPr/>
        </p:nvSpPr>
        <p:spPr>
          <a:xfrm rot="19345200">
            <a:off x="3105000" y="27795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h I have an idea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838080" y="6858000"/>
            <a:ext cx="4343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029200" y="60879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98d3"/>
                </a:solidFill>
                <a:latin typeface="Verdana"/>
              </a:rPr>
              <a:t>???????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lu"/>
    <p:sndAc>
      <p:stSnd>
        <p:snd r:embed="rId1" name="coin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285 -0.09606 C 0.06649 -0.16759 0.07517 -0.23333 0.08264 -0.30393 C 0.08715 -0.34583 0.08889 -0.38773 0.09462 -0.42939 C 0.09722 -0.47523 0.09809 -0.5206 0.09931 -0.56666 C 0.09965 -0.57685 0.09983 -0.58703 0.10069 -0.59699 C 0.10139 -0.60439 0.09826 -0.61782 0.10382 -0.61921 C 0.13559 -0.62754 0.1684 -0.62175 0.20069 -0.62314 C 0.20781 -0.628 0.21111 -0.63449 0.21736 -0.64143 C 0.2184 -0.6456 0.2217 -0.64907 0.22205 -0.65347 C 0.22847 -0.75115 0.21944 -0.6905 0.225 -0.72615 C 0.22552 -0.73842 0.22622 -0.75046 0.22656 -0.76273 C 0.22917 -0.84745 0.23941 -0.83125 0.17656 -0.83125 E">
                                      <p:cBhvr>
                                        <p:cTn id="55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5c000"/>
                </a:solidFill>
                <a:latin typeface="Forte"/>
              </a:rPr>
              <a:t>Last Fast Fact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pital: Moscow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rgest City: Moscow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ea: 17, 075, 400 sq k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fficial Languages: Russia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overnment: Semi-presidential Federal Republ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ident – Vladimir Puti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ime Minister - Mikhail Fradkov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pulation: 142, 400, 000 (2006 e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  <p:sndAc>
      <p:stSnd>
        <p:snd r:embed="rId3" name="push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6"/>
          <p:cNvSpPr/>
          <p:nvPr/>
        </p:nvSpPr>
        <p:spPr>
          <a:xfrm>
            <a:off x="1523880" y="1905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379760" y="2743200"/>
            <a:ext cx="184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380880" y="30492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is By: Peter Gagne, Ryan Lin, and Jason Ku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Hope you enjoyed it!!!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                                           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at’s a wrap!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This presentation was brought to you by: Mr. Griffith's Social Study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Sponsors: None we did this for fre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5c000"/>
                </a:solidFill>
                <a:latin typeface="Stencil"/>
              </a:rPr>
              <a:t>All our included information is from the “Glencoe Geography: the World and Its People” and images from Goog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1981080" y="20574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i="1" lang="en-US" sz="9600" spc="-1" strike="noStrike" u="sng">
                <a:solidFill>
                  <a:srgbClr val="000000"/>
                </a:solidFill>
                <a:uFillTx/>
                <a:latin typeface="Script MT Bold"/>
              </a:rPr>
              <a:t>The     End!!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  <p:sndAc>
      <p:stSnd>
        <p:snd r:embed="rId1" name="applause.wav"/>
      </p:stSnd>
    </p:sndAc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5:10:13Z</dcterms:created>
  <dc:creator>KUNG</dc:creator>
  <dc:description/>
  <dc:language>en-US</dc:language>
  <cp:lastModifiedBy> </cp:lastModifiedBy>
  <dcterms:modified xsi:type="dcterms:W3CDTF">2010-12-20T15:45:57Z</dcterms:modified>
  <cp:revision>26</cp:revision>
  <dc:subject/>
  <dc:title>Present Day Russia</dc:title>
</cp:coreProperties>
</file>